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DATTILO.WAV" ContentType="audio/x-wav"/>
  <Override PartName="/ppt/media/LASER.WAV" ContentType="audio/x-wav"/>
  <Override PartName="/ppt/media/PROMEMOR.WAV" ContentType="audio/x-wav"/>
  <Override PartName="/ppt/media/FOTO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AEA5-27CA-4FA4-9F1E-BF83B4FE6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1F4E-41B2-4433-B008-3FEA04D9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9F2D-E3A8-49D8-93BC-5CED9F0E7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77D8-C885-43F9-A9CA-623DFCA51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19C0-036C-4CD2-B5E3-A22BF40C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6CD8-4060-4D67-92AD-0C6E1E96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B360-87CC-42AF-9112-73590FF6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8313-7769-4EA9-B70A-1696257A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0BAD-F2ED-4190-94B9-5C8124FE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301F-AD44-41A9-B486-D8EF9F06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AF32-BB00-4A51-B7B0-8EF78CD1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9518-DAED-4C03-A0E3-6F527C19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EB29-6BA9-43DC-9DE6-027C2D87E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DATTILO.WAV"/><Relationship Id="rId3" Type="http://schemas.openxmlformats.org/officeDocument/2006/relationships/audio" Target="../media/DATTILO.WAV"/><Relationship Id="rId4" Type="http://schemas.openxmlformats.org/officeDocument/2006/relationships/audio" Target="../media/DATTILO.WAV"/><Relationship Id="rId5" Type="http://schemas.openxmlformats.org/officeDocument/2006/relationships/audio" Target="../media/DATTILO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MEMOR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FOTO.WAV"/><Relationship Id="rId3" Type="http://schemas.openxmlformats.org/officeDocument/2006/relationships/audio" Target="../media/FOTO.WAV"/><Relationship Id="rId4" Type="http://schemas.openxmlformats.org/officeDocument/2006/relationships/audio" Target="../media/FOTO.WAV"/><Relationship Id="rId5" Type="http://schemas.openxmlformats.org/officeDocument/2006/relationships/audio" Target="../media/FOTO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2514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2362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209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2666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90920" y="2819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3124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2971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90920" y="358128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3429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3276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37339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38862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40384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41911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4343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4495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4800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4952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5105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5257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4648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5410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5562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5715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666880" y="5867280"/>
            <a:ext cx="7632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2057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57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62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242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9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81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38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43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91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53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743200" y="1142640"/>
            <a:ext cx="0" cy="47242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43200" y="5867280"/>
            <a:ext cx="47242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5105520"/>
            <a:ext cx="762120" cy="761760"/>
          </a:xfrm>
          <a:prstGeom prst="rect">
            <a:avLst/>
          </a:prstGeom>
          <a:solidFill>
            <a:srgbClr val="ff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05120" y="3429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2666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1905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419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1219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cde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4191120" y="3124080"/>
            <a:ext cx="761760" cy="762120"/>
          </a:xfrm>
          <a:prstGeom prst="ellipse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48320" y="58672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CIRC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191120" y="32306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14800" y="4191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572000" y="3505320"/>
            <a:ext cx="0" cy="2666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495680" y="3886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95680" y="4267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495680" y="4648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495680" y="5029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495680" y="5410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191120" y="380988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114800" y="4572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14800" y="495288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114800" y="5334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14800" y="5715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91120" y="342900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733920" y="1371600"/>
            <a:ext cx="4876560" cy="4876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410080" y="3048120"/>
            <a:ext cx="15242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CIRC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" y="1981080"/>
            <a:ext cx="3124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adius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25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380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4648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19920" y="365760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3dfc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3809880" y="2743200"/>
            <a:ext cx="1524240" cy="1523880"/>
          </a:xfrm>
          <a:prstGeom prst="ellipse">
            <a:avLst/>
          </a:prstGeom>
          <a:solidFill>
            <a:srgbClr val="99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91120" y="3124080"/>
            <a:ext cx="761760" cy="762120"/>
          </a:xfrm>
          <a:prstGeom prst="ellipse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648320" y="5867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191120" y="32306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886200" y="28954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4191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0" y="3505320"/>
            <a:ext cx="0" cy="2666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495680" y="3886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95680" y="4267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495680" y="4648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495680" y="5029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95680" y="5410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956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91120" y="380988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4572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14800" y="495288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14800" y="5334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14800" y="5715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191120" y="342900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CIRC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d0a6"/>
            </a:gs>
            <a:gs pos="50000">
              <a:srgbClr val="ccffcc"/>
            </a:gs>
            <a:gs pos="100000">
              <a:srgbClr val="a6d0a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3733920" y="1371600"/>
            <a:ext cx="4876560" cy="487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05520" y="2743200"/>
            <a:ext cx="2133360" cy="21337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85800" y="1981080"/>
            <a:ext cx="3124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1.0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14400" y="548640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380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9920" y="472428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19920" y="2590920"/>
            <a:ext cx="30456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029200" y="373392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162920" y="373392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295280" y="4648320"/>
            <a:ext cx="2438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172200" y="3657600"/>
            <a:ext cx="0" cy="30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6019920" y="3809880"/>
            <a:ext cx="3045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486400" y="3809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90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CIRC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3dfc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3048120" y="1981080"/>
            <a:ext cx="3047760" cy="3048120"/>
          </a:xfrm>
          <a:prstGeom prst="ellipse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09880" y="2743200"/>
            <a:ext cx="1524240" cy="1523880"/>
          </a:xfrm>
          <a:prstGeom prst="ellipse">
            <a:avLst/>
          </a:prstGeom>
          <a:solidFill>
            <a:srgbClr val="99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191120" y="3124080"/>
            <a:ext cx="761760" cy="762120"/>
          </a:xfrm>
          <a:prstGeom prst="ellipse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648320" y="5867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91120" y="32306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886200" y="28954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05320" y="24382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114800" y="4191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0" y="3505320"/>
            <a:ext cx="0" cy="2666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495680" y="3886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495680" y="4267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4648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5029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495680" y="5410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4956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91120" y="380988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114800" y="4572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114800" y="495288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5334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14800" y="5715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91120" y="342900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CIRC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3733920" y="1371600"/>
            <a:ext cx="4876560" cy="487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495680" y="2133720"/>
            <a:ext cx="3353040" cy="3352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478296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066680" y="46306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57200" y="1981080"/>
            <a:ext cx="3124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.0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2.0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72200" y="3719520"/>
            <a:ext cx="157320" cy="90360"/>
          </a:xfrm>
          <a:custGeom>
            <a:avLst/>
            <a:gdLst/>
            <a:ahLst/>
            <a:rect l="l" t="t" r="r" b="b"/>
            <a:pathLst>
              <a:path w="99" h="57">
                <a:moveTo>
                  <a:pt x="0" y="57"/>
                </a:moveTo>
                <a:lnTo>
                  <a:pt x="99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19920" y="3719520"/>
            <a:ext cx="152280" cy="90360"/>
          </a:xfrm>
          <a:custGeom>
            <a:avLst/>
            <a:gdLst/>
            <a:ahLst/>
            <a:rect l="l" t="t" r="r" b="b"/>
            <a:pathLst>
              <a:path w="96" h="57">
                <a:moveTo>
                  <a:pt x="96" y="57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172200" y="3809880"/>
            <a:ext cx="0" cy="152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57200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46748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19920" y="5334120"/>
            <a:ext cx="30456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486400" y="38098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20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CIRC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0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3dfc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2286000" y="1219320"/>
            <a:ext cx="4572000" cy="4572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048120" y="1981080"/>
            <a:ext cx="3047760" cy="3048120"/>
          </a:xfrm>
          <a:prstGeom prst="ellipse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809880" y="2743200"/>
            <a:ext cx="1524240" cy="1523880"/>
          </a:xfrm>
          <a:prstGeom prst="ellipse">
            <a:avLst/>
          </a:prstGeom>
          <a:solidFill>
            <a:srgbClr val="99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191120" y="3124080"/>
            <a:ext cx="761760" cy="762120"/>
          </a:xfrm>
          <a:prstGeom prst="ellipse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648320" y="5867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191120" y="32306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86200" y="28954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505320" y="24382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048120" y="182880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114800" y="4191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572000" y="3505320"/>
            <a:ext cx="0" cy="2666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95680" y="3886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495680" y="4267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95680" y="4648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495680" y="5029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95680" y="5410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4956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91120" y="380988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14800" y="4572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114800" y="495288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114800" y="5334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114800" y="5715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91120" y="342900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CIRC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3657600" y="1295280"/>
            <a:ext cx="5029200" cy="5029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86200" y="1523880"/>
            <a:ext cx="4572000" cy="45720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5468760"/>
            <a:ext cx="152280" cy="15264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09480" y="478296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066680" y="4630680"/>
            <a:ext cx="2438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57200" y="1981080"/>
            <a:ext cx="3124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.0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3.0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038480" y="2514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001000" y="2514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019920" y="594360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114800" y="487692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077320" y="487692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5880" y="1447920"/>
            <a:ext cx="15264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172200" y="3657600"/>
            <a:ext cx="0" cy="30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014880" y="3719520"/>
            <a:ext cx="317520" cy="184320"/>
          </a:xfrm>
          <a:custGeom>
            <a:avLst/>
            <a:gdLst/>
            <a:ahLst/>
            <a:rect l="l" t="t" r="r" b="b"/>
            <a:pathLst>
              <a:path w="200" h="116">
                <a:moveTo>
                  <a:pt x="200" y="0"/>
                </a:moveTo>
                <a:lnTo>
                  <a:pt x="0" y="11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14880" y="3719520"/>
            <a:ext cx="314640" cy="184320"/>
          </a:xfrm>
          <a:custGeom>
            <a:avLst/>
            <a:gdLst/>
            <a:ahLst/>
            <a:rect l="l" t="t" r="r" b="b"/>
            <a:pathLst>
              <a:path w="198" h="116">
                <a:moveTo>
                  <a:pt x="0" y="0"/>
                </a:moveTo>
                <a:lnTo>
                  <a:pt x="198" y="11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638680" y="388620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60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CIRC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500"/>
                            </p:stCondLst>
                            <p:childTnLst>
                              <p:par>
                                <p:cTn id="34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0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45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124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419360" y="1752480"/>
            <a:ext cx="4190760" cy="41911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01000" y="22860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22860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53341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24680" y="2209680"/>
            <a:ext cx="152640" cy="152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924680" y="5257800"/>
            <a:ext cx="15264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22860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525780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76920" y="2209680"/>
            <a:ext cx="152280" cy="152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24480" y="17064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3505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548640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4648320"/>
            <a:ext cx="266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ttle 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3657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666880" y="2514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2362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2209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2666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2819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3124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66880" y="2971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358128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3429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3276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66880" y="37339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38862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66880" y="40384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41911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4343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4495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4800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66880" y="4952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5105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5257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648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5410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66880" y="5562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5715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4320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666880" y="5867280"/>
            <a:ext cx="7632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90920" y="2057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8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00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7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9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197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769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4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86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43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67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292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5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00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553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743200" y="1142640"/>
            <a:ext cx="0" cy="47242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5867280"/>
            <a:ext cx="47242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43200" y="5105520"/>
            <a:ext cx="762120" cy="761760"/>
          </a:xfrm>
          <a:prstGeom prst="rect">
            <a:avLst/>
          </a:prstGeom>
          <a:solidFill>
            <a:srgbClr val="ff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2057400"/>
            <a:ext cx="762120" cy="304812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5105520"/>
            <a:ext cx="3047760" cy="76176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3429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05120" y="2666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905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05120" y="419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051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6688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66880" y="339876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88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52480" y="1219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ebd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57200" y="1981080"/>
            <a:ext cx="3352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2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2.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6200000">
            <a:off x="4457520" y="1485360"/>
            <a:ext cx="3962520" cy="4952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2971800"/>
            <a:ext cx="14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419720" y="297180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24382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38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5486400"/>
            <a:ext cx="152280" cy="1522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19720" y="29862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a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45100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ast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419720" y="502776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532720" y="2971800"/>
            <a:ext cx="18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458200" y="49528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43400" y="49528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6708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188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4648320"/>
            <a:ext cx="266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5800" y="1981080"/>
            <a:ext cx="3352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2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2.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48320" y="1523880"/>
            <a:ext cx="3962160" cy="4953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96080" y="20574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38680" y="20574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61722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20574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38680" y="1523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57800" y="3809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486400"/>
            <a:ext cx="152280" cy="1522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562720" y="60958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0120" y="19810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20574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a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38680" y="5638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ast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86400" y="19051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43800" y="60199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95280" y="4648320"/>
            <a:ext cx="266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AT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AT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AT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AT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666880" y="2514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66880" y="2362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666880" y="2209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666880" y="2666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90920" y="2819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666880" y="3124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66880" y="2971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90920" y="358128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666880" y="3429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66880" y="3276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66880" y="37339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666880" y="38862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66880" y="40384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666880" y="41911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90920" y="4343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66880" y="4495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66880" y="4800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6880" y="4952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0920" y="5105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666880" y="5257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666880" y="4648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66880" y="5410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66880" y="5562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66880" y="5715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74320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2666880" y="5867280"/>
            <a:ext cx="7632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2057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8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00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352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57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62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197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7242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769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81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34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638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943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05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267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292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91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5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248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400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553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743200" y="1142640"/>
            <a:ext cx="0" cy="47242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743200" y="5867280"/>
            <a:ext cx="47242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5105520"/>
            <a:ext cx="762120" cy="761760"/>
          </a:xfrm>
          <a:prstGeom prst="rect">
            <a:avLst/>
          </a:prstGeom>
          <a:solidFill>
            <a:srgbClr val="ff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743200" y="2057400"/>
            <a:ext cx="762120" cy="304812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5105520"/>
            <a:ext cx="3047760" cy="76176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05320" y="2058840"/>
            <a:ext cx="3047760" cy="3351240"/>
          </a:xfrm>
          <a:custGeom>
            <a:avLst/>
            <a:gdLst/>
            <a:ahLst/>
            <a:rect l="l" t="t" r="r" b="b"/>
            <a:pathLst>
              <a:path w="1920" h="2111">
                <a:moveTo>
                  <a:pt x="0" y="0"/>
                </a:moveTo>
                <a:cubicBezTo>
                  <a:pt x="399" y="0"/>
                  <a:pt x="204" y="0"/>
                  <a:pt x="384" y="0"/>
                </a:cubicBezTo>
                <a:cubicBezTo>
                  <a:pt x="419" y="96"/>
                  <a:pt x="384" y="2"/>
                  <a:pt x="420" y="96"/>
                </a:cubicBezTo>
                <a:cubicBezTo>
                  <a:pt x="432" y="128"/>
                  <a:pt x="445" y="160"/>
                  <a:pt x="459" y="192"/>
                </a:cubicBezTo>
                <a:cubicBezTo>
                  <a:pt x="472" y="224"/>
                  <a:pt x="494" y="272"/>
                  <a:pt x="501" y="288"/>
                </a:cubicBezTo>
                <a:cubicBezTo>
                  <a:pt x="508" y="304"/>
                  <a:pt x="494" y="272"/>
                  <a:pt x="501" y="288"/>
                </a:cubicBezTo>
                <a:cubicBezTo>
                  <a:pt x="508" y="304"/>
                  <a:pt x="530" y="352"/>
                  <a:pt x="546" y="384"/>
                </a:cubicBezTo>
                <a:cubicBezTo>
                  <a:pt x="562" y="416"/>
                  <a:pt x="581" y="448"/>
                  <a:pt x="600" y="480"/>
                </a:cubicBezTo>
                <a:cubicBezTo>
                  <a:pt x="619" y="512"/>
                  <a:pt x="639" y="544"/>
                  <a:pt x="659" y="576"/>
                </a:cubicBezTo>
                <a:cubicBezTo>
                  <a:pt x="679" y="608"/>
                  <a:pt x="697" y="639"/>
                  <a:pt x="719" y="671"/>
                </a:cubicBezTo>
                <a:cubicBezTo>
                  <a:pt x="740" y="703"/>
                  <a:pt x="766" y="736"/>
                  <a:pt x="791" y="768"/>
                </a:cubicBezTo>
                <a:cubicBezTo>
                  <a:pt x="816" y="800"/>
                  <a:pt x="842" y="831"/>
                  <a:pt x="870" y="863"/>
                </a:cubicBezTo>
                <a:cubicBezTo>
                  <a:pt x="898" y="895"/>
                  <a:pt x="929" y="928"/>
                  <a:pt x="960" y="959"/>
                </a:cubicBezTo>
                <a:cubicBezTo>
                  <a:pt x="991" y="990"/>
                  <a:pt x="1024" y="1023"/>
                  <a:pt x="1056" y="1051"/>
                </a:cubicBezTo>
                <a:cubicBezTo>
                  <a:pt x="1088" y="1079"/>
                  <a:pt x="1120" y="1104"/>
                  <a:pt x="1152" y="1129"/>
                </a:cubicBezTo>
                <a:cubicBezTo>
                  <a:pt x="1184" y="1154"/>
                  <a:pt x="1216" y="1177"/>
                  <a:pt x="1248" y="1199"/>
                </a:cubicBezTo>
                <a:cubicBezTo>
                  <a:pt x="1280" y="1221"/>
                  <a:pt x="1314" y="1244"/>
                  <a:pt x="1346" y="1264"/>
                </a:cubicBezTo>
                <a:cubicBezTo>
                  <a:pt x="1378" y="1284"/>
                  <a:pt x="1407" y="1303"/>
                  <a:pt x="1439" y="1321"/>
                </a:cubicBezTo>
                <a:cubicBezTo>
                  <a:pt x="1471" y="1339"/>
                  <a:pt x="1504" y="1354"/>
                  <a:pt x="1536" y="1370"/>
                </a:cubicBezTo>
                <a:cubicBezTo>
                  <a:pt x="1568" y="1386"/>
                  <a:pt x="1600" y="1402"/>
                  <a:pt x="1632" y="1417"/>
                </a:cubicBezTo>
                <a:cubicBezTo>
                  <a:pt x="1664" y="1432"/>
                  <a:pt x="1698" y="1446"/>
                  <a:pt x="1730" y="1460"/>
                </a:cubicBezTo>
                <a:cubicBezTo>
                  <a:pt x="1762" y="1474"/>
                  <a:pt x="1794" y="1489"/>
                  <a:pt x="1826" y="1501"/>
                </a:cubicBezTo>
                <a:cubicBezTo>
                  <a:pt x="1920" y="1535"/>
                  <a:pt x="1824" y="1501"/>
                  <a:pt x="1920" y="1535"/>
                </a:cubicBezTo>
                <a:cubicBezTo>
                  <a:pt x="1920" y="1601"/>
                  <a:pt x="1920" y="1819"/>
                  <a:pt x="1920" y="1921"/>
                </a:cubicBezTo>
                <a:cubicBezTo>
                  <a:pt x="1737" y="1921"/>
                  <a:pt x="164" y="1920"/>
                  <a:pt x="0" y="1920"/>
                </a:cubicBezTo>
                <a:cubicBezTo>
                  <a:pt x="0" y="1802"/>
                  <a:pt x="0" y="2111"/>
                  <a:pt x="0" y="0"/>
                </a:cubicBezTo>
                <a:close/>
              </a:path>
            </a:pathLst>
          </a:custGeom>
          <a:solidFill>
            <a:srgbClr val="ffcc99"/>
          </a:solidFill>
          <a:ln cap="rnd" w="32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0512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62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05120" y="3429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05120" y="2666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05120" y="1905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05120" y="419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7242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48640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48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051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66688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666880" y="339876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62520" y="400860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52480" y="1219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388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f3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457200" y="1752480"/>
            <a:ext cx="33526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2.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uch as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.250.000 m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4457520" y="1485360"/>
            <a:ext cx="3962520" cy="4952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19720" y="2971800"/>
            <a:ext cx="14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419720" y="297180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48520" y="2438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038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5486400"/>
            <a:ext cx="152280" cy="1522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4419720" y="502776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532720" y="2971800"/>
            <a:ext cx="18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458200" y="28954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49528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4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26708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81880" y="48769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66680" y="4648320"/>
            <a:ext cx="266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2743200" y="2057400"/>
            <a:ext cx="3809880" cy="3809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666880" y="2514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666880" y="2362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666880" y="2209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666880" y="2666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2819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66880" y="3124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66880" y="2971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90920" y="358128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66880" y="3429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66880" y="3276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666880" y="37339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666880" y="38862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66880" y="40384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666880" y="41911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90920" y="4343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66880" y="4495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66880" y="4800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66880" y="4952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90920" y="5105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66880" y="5257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4648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5410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666880" y="5562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66880" y="5715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4320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2666880" y="5867280"/>
            <a:ext cx="7632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90920" y="2057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95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48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200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52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657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09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62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14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197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720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8769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181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34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638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943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5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267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0292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91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5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248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400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553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743200" y="1142640"/>
            <a:ext cx="0" cy="47242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5867280"/>
            <a:ext cx="47242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743200" y="5105520"/>
            <a:ext cx="762120" cy="761760"/>
          </a:xfrm>
          <a:prstGeom prst="rect">
            <a:avLst/>
          </a:prstGeom>
          <a:solidFill>
            <a:srgbClr val="ff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743200" y="2057400"/>
            <a:ext cx="762120" cy="304812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505320" y="5105520"/>
            <a:ext cx="3047760" cy="76176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505320" y="2058840"/>
            <a:ext cx="3047760" cy="3351240"/>
          </a:xfrm>
          <a:custGeom>
            <a:avLst/>
            <a:gdLst/>
            <a:ahLst/>
            <a:rect l="l" t="t" r="r" b="b"/>
            <a:pathLst>
              <a:path w="1920" h="2111">
                <a:moveTo>
                  <a:pt x="0" y="0"/>
                </a:moveTo>
                <a:cubicBezTo>
                  <a:pt x="399" y="0"/>
                  <a:pt x="204" y="0"/>
                  <a:pt x="384" y="0"/>
                </a:cubicBezTo>
                <a:cubicBezTo>
                  <a:pt x="419" y="96"/>
                  <a:pt x="384" y="2"/>
                  <a:pt x="420" y="96"/>
                </a:cubicBezTo>
                <a:cubicBezTo>
                  <a:pt x="432" y="128"/>
                  <a:pt x="445" y="160"/>
                  <a:pt x="459" y="192"/>
                </a:cubicBezTo>
                <a:cubicBezTo>
                  <a:pt x="472" y="224"/>
                  <a:pt x="494" y="272"/>
                  <a:pt x="501" y="288"/>
                </a:cubicBezTo>
                <a:cubicBezTo>
                  <a:pt x="508" y="304"/>
                  <a:pt x="494" y="272"/>
                  <a:pt x="501" y="288"/>
                </a:cubicBezTo>
                <a:cubicBezTo>
                  <a:pt x="508" y="304"/>
                  <a:pt x="530" y="352"/>
                  <a:pt x="546" y="384"/>
                </a:cubicBezTo>
                <a:cubicBezTo>
                  <a:pt x="562" y="416"/>
                  <a:pt x="581" y="448"/>
                  <a:pt x="600" y="480"/>
                </a:cubicBezTo>
                <a:cubicBezTo>
                  <a:pt x="619" y="512"/>
                  <a:pt x="639" y="544"/>
                  <a:pt x="659" y="576"/>
                </a:cubicBezTo>
                <a:cubicBezTo>
                  <a:pt x="679" y="608"/>
                  <a:pt x="697" y="639"/>
                  <a:pt x="719" y="671"/>
                </a:cubicBezTo>
                <a:cubicBezTo>
                  <a:pt x="740" y="703"/>
                  <a:pt x="766" y="736"/>
                  <a:pt x="791" y="768"/>
                </a:cubicBezTo>
                <a:cubicBezTo>
                  <a:pt x="816" y="800"/>
                  <a:pt x="842" y="831"/>
                  <a:pt x="870" y="863"/>
                </a:cubicBezTo>
                <a:cubicBezTo>
                  <a:pt x="898" y="895"/>
                  <a:pt x="929" y="928"/>
                  <a:pt x="960" y="959"/>
                </a:cubicBezTo>
                <a:cubicBezTo>
                  <a:pt x="991" y="990"/>
                  <a:pt x="1024" y="1023"/>
                  <a:pt x="1056" y="1051"/>
                </a:cubicBezTo>
                <a:cubicBezTo>
                  <a:pt x="1088" y="1079"/>
                  <a:pt x="1120" y="1104"/>
                  <a:pt x="1152" y="1129"/>
                </a:cubicBezTo>
                <a:cubicBezTo>
                  <a:pt x="1184" y="1154"/>
                  <a:pt x="1216" y="1177"/>
                  <a:pt x="1248" y="1199"/>
                </a:cubicBezTo>
                <a:cubicBezTo>
                  <a:pt x="1280" y="1221"/>
                  <a:pt x="1314" y="1244"/>
                  <a:pt x="1346" y="1264"/>
                </a:cubicBezTo>
                <a:cubicBezTo>
                  <a:pt x="1378" y="1284"/>
                  <a:pt x="1407" y="1303"/>
                  <a:pt x="1439" y="1321"/>
                </a:cubicBezTo>
                <a:cubicBezTo>
                  <a:pt x="1471" y="1339"/>
                  <a:pt x="1504" y="1354"/>
                  <a:pt x="1536" y="1370"/>
                </a:cubicBezTo>
                <a:cubicBezTo>
                  <a:pt x="1568" y="1386"/>
                  <a:pt x="1600" y="1402"/>
                  <a:pt x="1632" y="1417"/>
                </a:cubicBezTo>
                <a:cubicBezTo>
                  <a:pt x="1664" y="1432"/>
                  <a:pt x="1698" y="1446"/>
                  <a:pt x="1730" y="1460"/>
                </a:cubicBezTo>
                <a:cubicBezTo>
                  <a:pt x="1762" y="1474"/>
                  <a:pt x="1794" y="1489"/>
                  <a:pt x="1826" y="1501"/>
                </a:cubicBezTo>
                <a:cubicBezTo>
                  <a:pt x="1920" y="1535"/>
                  <a:pt x="1824" y="1501"/>
                  <a:pt x="1920" y="1535"/>
                </a:cubicBezTo>
                <a:cubicBezTo>
                  <a:pt x="1920" y="1601"/>
                  <a:pt x="1920" y="1819"/>
                  <a:pt x="1920" y="1921"/>
                </a:cubicBezTo>
                <a:cubicBezTo>
                  <a:pt x="1737" y="1921"/>
                  <a:pt x="164" y="1920"/>
                  <a:pt x="0" y="1920"/>
                </a:cubicBezTo>
                <a:cubicBezTo>
                  <a:pt x="0" y="1802"/>
                  <a:pt x="0" y="2111"/>
                  <a:pt x="0" y="0"/>
                </a:cubicBezTo>
                <a:close/>
              </a:path>
            </a:pathLst>
          </a:custGeom>
          <a:solidFill>
            <a:srgbClr val="ffcc99"/>
          </a:solidFill>
          <a:ln cap="rnd" w="32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90512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905120" y="3429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05120" y="2666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905120" y="1905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240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05120" y="419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7242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48640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248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051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66688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666880" y="339876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62520" y="400860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181480" y="278928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52480" y="1219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2388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MEM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 rot="16200000">
            <a:off x="3886200" y="1676160"/>
            <a:ext cx="4800600" cy="4800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19720" y="2971800"/>
            <a:ext cx="14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4419360" y="2209680"/>
            <a:ext cx="3809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95880" y="16765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038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066680" y="52722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4419360" y="601992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 flipV="1">
            <a:off x="8228160" y="2209680"/>
            <a:ext cx="144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4419720" y="2209680"/>
            <a:ext cx="144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16765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9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2.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uch as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.250.000 m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6.250.000 m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9480" y="541008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267080" y="20574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077320" y="205740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077320" y="586728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267080" y="586728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3T11:31:05Z</dcterms:created>
  <dc:creator>Navispelog - 4° Reparto Fari</dc:creator>
  <dc:description/>
  <dc:language>en-US</dc:language>
  <cp:lastModifiedBy>CIL</cp:lastModifiedBy>
  <dcterms:modified xsi:type="dcterms:W3CDTF">2006-10-18T14:25:40Z</dcterms:modified>
  <cp:revision>49</cp:revision>
  <dc:subject/>
  <dc:title>MARICOLTURE</dc:title>
</cp:coreProperties>
</file>